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6D4D-F775-458C-89FA-94DCC964FC7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99C7-DE1D-40AA-9BD2-00442917E3E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36CB-D77B-45F9-A997-8B80F6FE3AA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71D-DF14-44EB-8522-384C8B4A193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06AD-66F6-4FC8-A42C-FD21DDA69E9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AF5D-5A75-435E-AD20-90D11951E7F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B938-E090-4CC8-B21D-870830F048B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BFE-8342-4913-A08C-8014B476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200-3FF5-41A3-A2AF-8CB8335B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197-F795-4AF1-B667-005EE981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73F-F728-4EE0-B910-76FAA3A9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AA6-CFA3-49FD-9814-B1630788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516-983F-4729-B597-08B62326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26B-BE28-4B6C-8368-A6B3B607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7CE-88E1-451E-8CDD-9CA5BABC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2BE-AE90-4D99-A046-47F3F89C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AC6-BC53-446B-8F6D-C9164D97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19A-F257-4043-8B2E-7267F33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F22-44E1-4B59-85AC-31A68C9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E011-ABE5-41BD-B11E-A44702B97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STUDENT-LED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CONFERENC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Program Files\Microsoft Office\Clipart\standard\stddir1\bd07206_.wmf"/>
          <p:cNvPicPr/>
          <p:nvPr/>
        </p:nvPicPr>
        <p:blipFill>
          <a:blip r:embed="rId1"/>
          <a:stretch/>
        </p:blipFill>
        <p:spPr>
          <a:xfrm>
            <a:off x="2971800" y="3048120"/>
            <a:ext cx="32893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3520" y="609480"/>
            <a:ext cx="807696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-LED CON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ents facilitate meetings between the student, their teacher, and their parents for the purpose of 1) reviewing educational progress, 2) setting goals, and 3) securing parent help with go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"/>
          <p:cNvSpPr/>
          <p:nvPr/>
        </p:nvSpPr>
        <p:spPr>
          <a:xfrm>
            <a:off x="685800" y="1447920"/>
            <a:ext cx="784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152388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rn about student-led con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lect on work in each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lect on behaviors and at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 Team Evaluation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rn ways to improve various behaviors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at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rn how to set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t tentative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 an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FORE THE CON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533520" y="129528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0"/>
            <a:ext cx="73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sent report card and 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 reflection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 behavior / attitude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t goals (Personal Education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URING THE CON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4"/>
          <p:cNvSpPr/>
          <p:nvPr/>
        </p:nvSpPr>
        <p:spPr>
          <a:xfrm>
            <a:off x="533520" y="129528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133720" y="1981080"/>
            <a:ext cx="4876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udent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ent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cher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FTER THE CON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533520" y="129528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133720" y="1905120"/>
            <a:ext cx="48765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al Sett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lec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f Evalu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cilit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oice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UDENTS LEA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33520" y="129528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4T02:09:51Z</dcterms:created>
  <dc:creator>BSMA Reynolds</dc:creator>
  <dc:description/>
  <dc:language>en-US</dc:language>
  <cp:lastModifiedBy>Laura and Stew</cp:lastModifiedBy>
  <dcterms:modified xsi:type="dcterms:W3CDTF">2009-10-10T02:23:08Z</dcterms:modified>
  <cp:revision>3</cp:revision>
  <dc:subject/>
  <dc:title>STUDENT-LED CONFERENCES</dc:title>
</cp:coreProperties>
</file>